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03E-F0D2-470D-94A4-5BE50855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FF3-E8C9-4BF0-BD62-F21C675E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08B-7BA7-47B9-9F27-A0CA7D54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5D6-4FF2-42F4-A5ED-F916A420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91F-C73C-40AE-9A24-7E8EB3A1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167-1104-43F7-B6EB-26209E8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5A5-6BCC-49D4-8ACC-F8775E0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9AD-359A-43D6-BF66-7FC2F33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543-BB75-406E-A037-EBFDCAC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8A1-4073-4DD2-8E21-F35E045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B32-9AD5-4F6A-87A1-49BEC187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2BE-3A1D-4369-9A1F-4179EA7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FB6-BA04-418E-8040-610463F9F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 de cad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7:01Z</dcterms:modified>
  <cp:revision>103</cp:revision>
  <dc:subject/>
  <dc:title>Présentation PowerPoint</dc:title>
</cp:coreProperties>
</file>